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71D6-4C4B-4138-B6DA-4EBCFE51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750C-5210-408C-8CB6-74CE2740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E814-5E07-4C92-BE31-3CDD8803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26E7-A6B7-46AA-920C-6E7C2F97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B060-9B42-4DFE-8ED6-667BC7A2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F0DE-E114-41EC-85C4-518E392C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0083-05D4-4294-8743-D11C16E2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3DAE-795C-409B-A088-36D90BC1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458A-12AD-4B78-9BE9-E9237F8F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84C4-483B-451B-9313-A2603AC6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B119-B78F-4E2C-8A26-FF010709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CF5F-B206-4AF8-B34A-00ABD49F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6B29-C487-4DA2-A281-54D1DE18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67BA-A8AC-4543-90F8-9F003D8E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941B-B420-43C6-8060-0AE34E36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C58D-1954-4632-9134-98E76FFC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3B6A-7BB5-41D6-971E-EFCC540D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770A-4A1D-49A0-8CFB-B4794182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B940-51C3-4176-A1E1-FA744546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3036-D118-4E5E-B459-8F53A41F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EDBC-300D-45F0-BF08-D38353E4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A0AB-597F-4990-8414-2E624E9D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1887-53B1-4325-89EB-3228DC1D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7961-B6AA-4A4D-8286-1F458736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542D-4E43-4811-8EB0-CEAE5C9586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6FF3-7967-454C-8656-41377448EA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llgoodseats.com/images/carlos-santana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pochoblog.com/assets/2010/02/ritchie-valens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talentwest.com/entertain/actors/images/BuddyHolly.jpg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aaronrodrecordings.com/wp-content/uploads/2010/01/elvis.jpg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www.vinylrevinyl.com/wp-content/uploads/2008/10/dean-martin.jpg" TargetMode="External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inylrevinyl.com/wp-content/uploads/2008/10/dean-martin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ikipedia.org/" TargetMode="External"/><Relationship Id="rId2" Type="http://schemas.openxmlformats.org/officeDocument/2006/relationships/hyperlink" Target="http://www.wikipedia.org/" TargetMode="External"/><Relationship Id="rId3" Type="http://schemas.openxmlformats.org/officeDocument/2006/relationships/hyperlink" Target="http://www.wikipedia.org/" TargetMode="External"/><Relationship Id="rId4" Type="http://schemas.openxmlformats.org/officeDocument/2006/relationships/hyperlink" Target="http://www.allmusic.com/" TargetMode="External"/><Relationship Id="rId5" Type="http://schemas.openxmlformats.org/officeDocument/2006/relationships/hyperlink" Target="http://www.allmusic.com/" TargetMode="External"/><Relationship Id="rId6" Type="http://schemas.openxmlformats.org/officeDocument/2006/relationships/hyperlink" Target="http://www.allmusic.com/" TargetMode="External"/><Relationship Id="rId7" Type="http://schemas.openxmlformats.org/officeDocument/2006/relationships/hyperlink" Target="http://www.allgoodseats.com/images/carlos-santana.jpg" TargetMode="External"/><Relationship Id="rId8" Type="http://schemas.openxmlformats.org/officeDocument/2006/relationships/hyperlink" Target="http://www.pochoblog.com/assets/2010/02/ritchie-valens.jpg" TargetMode="External"/><Relationship Id="rId9" Type="http://schemas.openxmlformats.org/officeDocument/2006/relationships/hyperlink" Target="http://www.talentwest.com/entertain/actors/buddy.htm" TargetMode="External"/><Relationship Id="rId10" Type="http://schemas.openxmlformats.org/officeDocument/2006/relationships/hyperlink" Target="http://www.talentwest.com/entertain/actors/buddy.htm" TargetMode="External"/><Relationship Id="rId11" Type="http://schemas.openxmlformats.org/officeDocument/2006/relationships/hyperlink" Target="http://aaronrodrecordings.com/?p=4" TargetMode="External"/><Relationship Id="rId12" Type="http://schemas.openxmlformats.org/officeDocument/2006/relationships/hyperlink" Target="http://aaronrodrecordings.com/?p=4" TargetMode="External"/><Relationship Id="rId13" Type="http://schemas.openxmlformats.org/officeDocument/2006/relationships/hyperlink" Target="http://aaronrodrecordings.com/?p=4" TargetMode="External"/><Relationship Id="rId14" Type="http://schemas.openxmlformats.org/officeDocument/2006/relationships/hyperlink" Target="http://www.vinylrevinyl.com/.../jazz-vinyl/dean-martin/" TargetMode="External"/><Relationship Id="rId1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llgoodseats.com/images/carlos-santan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ochoblog.com/assets/2010/02/ritchie-valens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alentwest.com/entertain/actors/images/BuddyHolly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aronrodrecordings.com/wp-content/uploads/2010/01/elvis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66880" y="761760"/>
            <a:ext cx="4114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Corey McDonough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71600" y="533520"/>
            <a:ext cx="6324480" cy="1181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rtists Influen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00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 rot="20770200">
            <a:off x="609120" y="1980720"/>
            <a:ext cx="2057400" cy="1914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rot="20663400">
            <a:off x="991080" y="39625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los Sant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1523880"/>
            <a:ext cx="1581120" cy="1981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657600" y="3581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chie Val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 rot="571200">
            <a:off x="6095880" y="1752120"/>
            <a:ext cx="2373480" cy="1960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See full 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438280" y="4191120"/>
            <a:ext cx="1535400" cy="1981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rot="591600">
            <a:off x="6400440" y="3809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ddy Ho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61722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vis Presl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See full size ima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800600" y="4191120"/>
            <a:ext cx="1584360" cy="1981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876920" y="6172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an Mart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1981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Dean Martin: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533520"/>
            <a:ext cx="3656160" cy="4572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990720" y="548604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eel sorry for people who don't drink. They wake up in the morning and that's the best they're going to feel all day.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895480" y="457200"/>
            <a:ext cx="300996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an Mart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47920"/>
            <a:ext cx="80010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n July 17, 19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birth name was Dino Paul Crocet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as a boxer as a kid until the age of 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giving boxing up he worked as a stock bo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sang with local bands and called him self “Dino Matini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as a major star in four areas of show bu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rdings, Concerts, TV shows, and Motion Pi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most famous for his songs “That’s Amore”, and “A   Mamb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inducted into the Hit Parade Hall of Fame in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d on December 25, 1995 in Beverly Hills, Califor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895480" y="380880"/>
            <a:ext cx="3114720" cy="129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ibliograph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From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65200" y="1370880"/>
            <a:ext cx="27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www.wikipedia.org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64480" y="175176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www.allmusic.com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590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ctures Fro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92120" y="2513880"/>
            <a:ext cx="58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867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http://www.allgoodseats.com/images/carlos-santana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47242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44197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92480" y="2894760"/>
            <a:ext cx="62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http://www.pochoblog.com/assets/2010/02/ritchie-valens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9240" y="3276000"/>
            <a:ext cx="56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867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http://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www.talentwest.com/entertain/actors/buddy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9600" y="4037760"/>
            <a:ext cx="38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http://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aaronrodrecordings.com/?p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=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90680" y="365688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www.vinylrevinyl.com/.../jazz-vinyl/dean-martin/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9240" y="4647600"/>
            <a:ext cx="46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thinkexist.com/quotes/carlos_santana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5028840"/>
            <a:ext cx="45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imdb.com/title/tt0093378/quo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9240" y="5409360"/>
            <a:ext cx="46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imdb.com/title/tt0093378/quo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92120" y="5790600"/>
            <a:ext cx="66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brainyquote.com/quotes/authors/e/elvis_presley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9240" y="6171480"/>
            <a:ext cx="44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thinkexist.com/quotes/dean_martin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26668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Carlos Santa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457200"/>
            <a:ext cx="5943600" cy="4815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920" y="570600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songs are just like tattoos for your brain... you hear them and they're affixed to you.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0912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in Jalisco, Mexico as Carlos Augusto Alves Santana on July 20th, 194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age of 5, Carlos was taught how to play the violin, and guitar by his fa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 to become a famous rock guitari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band “Santana” became famous in the late 1960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plays mix of music that includes Rock, Latin Rock, Blues Rock, Funk, and  Jaz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time Grammy wi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a young age Carlos was heavily influenced by Ritchie Valens – a rock and roll artist, and a forefather of the Chicano Rock Movemen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09680" y="380880"/>
            <a:ext cx="495324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rlos Santana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28191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Ritchie Valens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380880"/>
            <a:ext cx="3830400" cy="4800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880" y="56214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mom reckons I'm going to be a star. And stars don't fall from the sk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8007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n on May 13, 1941 as Ricardo Esteban Valenzuela Re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xican-America singer, song writer, and guitar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as most famous during the Chicano Rock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ck hall of fame in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kid he heard a lot of mariachi music, native to Mex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as eager to learn how to play the gui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 guitarist in a band called The Silhout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most famous for his song “La Bamb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as most influenced by one of his fellow musicians, Buddy Ho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both died in a plane crash on February 3, 195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 rot="194400">
            <a:off x="2286000" y="456840"/>
            <a:ext cx="4952880" cy="952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23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itchie Valens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26668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Buddy Holly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380880"/>
            <a:ext cx="5334120" cy="4405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295280" y="5257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The sky belongs to the star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2120" y="1066680"/>
            <a:ext cx="8007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on September, 7 1936 as Charles Hardin Holl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w up in Texas, and was given the nickname Buddy by his 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singer song wri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oneer of rock and ro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s quoted as “</a:t>
            </a: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the single most influential creative force in early rock and rol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cted to the Rock and Roll Hall of Fame in 19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s most influenced by Elvis Presl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ed in a plane crash with fellow musician Ritchie Valens on February 3, 195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971800" y="457200"/>
            <a:ext cx="3114720" cy="952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uddy Holly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28954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Elvis Presley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304920"/>
            <a:ext cx="4842000" cy="5105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90720" y="58665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bition is a dream with a V8 engin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n January,8 1935 as Elvis Aaron Presl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of the most popular American singer during the 20th cent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is known as “the King of Rock and Roll” or “the King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un Records owner Sam Phillips potential in Presley it was destine to 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ley recorded his first record at the age of 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later went to serve in the milit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making several television appearances Presley was the new leading figure of Rock and R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lis was most influenced by Dean Mar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on 3 competitive Grammy awards, and was inducted into four different hall of f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d August 16, 19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895480" y="533520"/>
            <a:ext cx="33433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lvis Presley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9:55:16Z</dcterms:created>
  <dc:creator>comcdonough6</dc:creator>
  <dc:description/>
  <dc:language>en-US</dc:language>
  <cp:lastModifiedBy>comcdonough6</cp:lastModifiedBy>
  <dcterms:modified xsi:type="dcterms:W3CDTF">2010-11-22T16:19:01Z</dcterms:modified>
  <cp:revision>8</cp:revision>
  <dc:subject/>
  <dc:title>Corey McDonough English 4B</dc:title>
</cp:coreProperties>
</file>